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AC367-A9D4-454A-8591-17326CC33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7F951-BA11-4FE1-8926-D59A792F5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6A05E-97A8-43EC-8789-5E1CA111D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51B42-4731-43D9-AE7B-4AF9D53A1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9A21C-7DB2-4FB6-8124-EE63DEA41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2F4E2-61A6-48A5-A2ED-05377E42C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E4EFE-75FE-4C29-B787-C958DA85A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1E1C2-D80E-4DAC-ADB6-DA29953FD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6E487-F486-4F87-A744-A38B7786D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D639A-6AEE-4663-87FB-74A2666C1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131E9-3349-4674-8E65-86BBAB106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C2AB0-7FEB-41C2-81CA-83159A7C1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89ADA-7604-42A6-8281-52A9E72D6D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4" name=""/>
          <p:cNvSpPr txBox="1"/>
          <p:nvPr/>
        </p:nvSpPr>
        <p:spPr>
          <a:xfrm>
            <a:off x="1523880" y="4114800"/>
            <a:ext cx="64771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Adaptat după Manualul de Istorie, clasa a V-a, Zoe Petre, </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7" name="Picture 6" descr=""/>
          <p:cNvPicPr/>
          <p:nvPr/>
        </p:nvPicPr>
        <p:blipFill>
          <a:blip r:embed="rId1"/>
          <a:stretch/>
        </p:blipFill>
        <p:spPr>
          <a:xfrm>
            <a:off x="4952880" y="1447920"/>
            <a:ext cx="3600720" cy="3600360"/>
          </a:xfrm>
          <a:prstGeom prst="rect">
            <a:avLst/>
          </a:prstGeom>
          <a:ln w="0">
            <a:noFill/>
          </a:ln>
        </p:spPr>
      </p:pic>
      <p:graphicFrame>
        <p:nvGraphicFramePr>
          <p:cNvPr id="48" name=""/>
          <p:cNvGraphicFramePr/>
          <p:nvPr/>
        </p:nvGraphicFramePr>
        <p:xfrm>
          <a:off x="1523880" y="1371600"/>
          <a:ext cx="6096240" cy="4067280"/>
        </p:xfrm>
        <a:graphic>
          <a:graphicData uri="http://schemas.openxmlformats.org/presentationml/2006/ole">
            <p:oleObj r:id="rId2" spid="">
              <p:embed/>
              <p:pic>
                <p:nvPicPr>
                  <p:cNvPr id="49" name="" descr=""/>
                  <p:cNvPicPr/>
                  <p:nvPr/>
                </p:nvPicPr>
                <p:blipFill>
                  <a:blip r:embed="rId3"/>
                  <a:stretch/>
                </p:blipFill>
                <p:spPr>
                  <a:xfrm>
                    <a:off x="1523880" y="1371600"/>
                    <a:ext cx="609624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cp:lastModifiedBy>
  <dcterms:modified xsi:type="dcterms:W3CDTF">2012-06-18T11:13:24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